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245-9A91-4814-B516-446F6516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454-32E1-4412-8729-1A2EB1E9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74F6F-8C21-4020-BE0E-3905E9F1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958D2-1583-4970-9B30-108EF748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F9581-2DF2-4846-966D-6F05185A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F8156-4B35-4F98-BE6D-019675B5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2D4D1-8ABC-47DF-899A-DC91DF16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59246-A10C-48BE-B762-88509009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75527-DC75-4177-89CF-01E36ED4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C4491-9928-464C-8469-F9EA2659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1B0F7-6FE8-4865-96BE-5C6976A2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3554C-854F-4D6F-8051-0D3A3CD4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D49-AE05-47FB-92CF-80A0E5E2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2E4D8-6EC2-40CA-BA7B-A63BD31D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950F5-4D39-403C-8D01-B4220E5C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755F7-28CD-4A9F-96AC-37DE5986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3B7B9-2A53-4FF1-A002-E8960370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AC982-EB47-410D-858A-A43F89A1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47666-DFA9-45D9-B776-42F8EA72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E2043-DA75-4849-8CDC-04F4515F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793CD-F9D4-440C-A680-6B27C255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DE7CE-A882-4AE4-9638-B1C66A52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A6CBA-733A-46AA-A23C-50C73BE4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FB0-5DB3-4087-A03D-948FF504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79131-CE3D-4AC2-AE9B-7ECFD716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98536-A7BA-4E78-96CF-385C1661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2937A-D319-47D1-95D7-B3F7CB7B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6C810-F8FA-4C0F-96C5-C0DCE019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A2AD3-7DD9-4DE2-ACCF-BE3D7366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79503-96F4-401E-94A7-F9210A1C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C78EF-9C2B-411B-B3B6-4F1C66D0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45150-DD75-48B2-9BAA-CD5AE52F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7D8A4-1C08-4347-939E-5A052722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B32F7-BCB6-4B11-A0E0-3C91CF69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9F96-1B1A-4E8B-903B-CBD8FECA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B5A36-933B-4C28-BC94-3E4ED264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56D24-274A-4E8C-B20B-4AA2C0E7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D8481-91D5-48DB-8B82-A6E8ACED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18F4E-C3ED-47D5-A9F2-4ED853FF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DDC00-2BE1-475D-AA28-2A0DC241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BC650-94E9-4249-A260-01139C05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2C3DB-DC74-42B2-BBF5-4474CCF8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06E14-2387-4119-AEF0-49D9CC59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09DF2-F05A-475D-AA64-9DA8037B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1080A-0CE5-4D30-B417-6040696E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FB9C-2F45-4467-9043-C073F7B0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C8779-B8A3-4CD0-94C8-48A682D7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FF040-8BB7-4D1D-9E35-C1AC295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8C576-6974-42BF-BF87-F9E9F7D2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FEBA7-14B3-496A-BF11-7B2DADC6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662C5-8F72-4F4B-A1CA-48F0B493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F106-79C1-4864-A5D1-E4C18ABE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28CF-6F19-403D-9A39-C83299EF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8928-17F8-4F7A-9EDC-62546EBB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5BB7-72C8-4E66-BA1A-D4D625C7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E76D-41B7-4850-BD32-2E6A568D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096-BD41-4DFA-871E-B479C3AE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F51D-838C-46DF-9627-A74DF1FE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6EC9-518C-492E-8304-E5F87537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592E-97CD-46D6-9392-8865A2DC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57A6-5220-436A-AA6F-0F7CDE6E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1E8D-9112-419A-A28C-846933DA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4F91-4BD2-43B3-8BA6-0E76128A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5210-393A-409C-85C6-5A73CDBB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10A7-3587-4016-98D7-E54579CB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FF3B-5312-4BC6-8D0C-B15D2600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49B9-AE37-4F16-8EA5-8E8D9A67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E72-AE1B-46DA-BFEB-B4E3B711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D900-032F-4C7E-A0FD-D8EC7F1D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8D31-1806-4D35-A380-9599F66F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CB63-12EB-4B0D-A731-A10D3A39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32F8E-BF46-487F-8C67-B7EF0F1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3BD4-D6DD-47C7-B7BE-E15FEBB1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3A56-7E68-4A17-8416-0B41D818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4E44-4BEB-457D-A88E-59080F1F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F2303-FCBC-4A62-AB1F-3835F69E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5A18-19DB-49A2-A2C7-40936ED9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A9E85-F219-4052-B0FF-E47888B2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B76-6D24-4AE9-A022-AD852F56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47E0-4A94-4255-AE37-DC91699F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D930-F72D-4BEB-8539-ACB1A43E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4DE90-ADD7-4D09-9360-C074E050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11B7-4452-4915-B35D-EB75C165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51079-9C8A-497F-B133-BB3A8868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A8F5A-D411-4699-A6B8-F1A6F825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A3B69-B182-4055-90FA-135588B8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4D6D-5DF7-4036-8D9B-2A978FAF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A0F36-85CE-4BF9-BEF1-550DA3EC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F90A9-B862-42A2-B055-A3207013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ACB-C060-4308-A44C-2A43FC46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50A79-AE14-4642-96A2-E528A8E7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E4B3D-13C6-4EC6-A72A-E467D777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C0D61-321E-45F6-B3C8-63D654D7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9B659-D0BA-47E3-8159-F2743FAE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9A4F2-E55D-4400-9DA9-11A9A820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F0396-70C8-4A80-9FB4-DC537F1F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BD5A5-0F80-4666-B6BD-7830BC4A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60443-BFB3-48E9-B747-A555F639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27521-53E0-425B-8E0A-8A5F85A6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FB318-C462-43F1-AC43-F63A2F04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FD5-F4B8-4B77-B394-8657697D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F4411-8AE1-4CD7-AFB3-F107E011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CEEAC-3077-4400-ABA7-30A29CD6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A9A25-FF08-4EB9-B766-9F51C5F8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3CD78-AE5A-4B5D-9FB4-142982FD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F8135-F6B8-471E-9019-013DD93B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3B907-68EF-4693-A5A1-15F9108D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ECBB5-A7F4-4472-8637-8AD09356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187B4-4091-49B1-8218-B4A6C15D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E2297-E39F-488E-9184-4DFB67CC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CC638-4BE1-4E41-9881-D797CC43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C35-FB48-4310-881D-CFA5A93D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C7F1F-F688-4649-9D66-D13D1E24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5C95C-45F1-4CED-B02D-7EF93C77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61A62-3D4A-4792-95B5-BFC7AE84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5C4E3-0965-4335-8FA8-EB488CE9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A3D8E-0C1D-4949-BF33-319569DF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3754E-ACED-4707-A4D0-313806AE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0D10A-8497-4F1F-AAAD-71B6722E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6A60E-1AA8-4144-8DCF-D96B673E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DE1DD-BE08-4703-BD37-E9A1F5A6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A100E-39C6-4403-9D5B-1899B38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FF4-98D3-49B6-876C-85619A7E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86318-5734-46A2-A0B0-9ABB619C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6D202-9007-4420-B05A-1A078FC9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D3D0A-31F1-4425-8735-7C648E5D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E75FC-E0A2-4D43-B7FC-61AD739C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FFD45-7F0E-4059-B9F6-1C579BCA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4EDA0-FA0C-43FC-96BA-E73F530B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6D700-579C-4D9E-8B44-04985173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FE8DD-E793-469B-B4C9-0D5AC74B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535B7-53E9-4005-9ACF-148BFC01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B0E15-2BBE-432A-9420-BC922C3F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3DA-D73B-43FA-8FD5-5AAE8FD2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7B2F7-4166-4888-B47D-3E4F7155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E1AF4-00F0-4A08-9BE2-80E2B0AE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1BCAA-40FB-48CC-BE89-88045483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B2939-D3AE-4D75-B585-3102743A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60A61-1D64-4917-A9D8-1C93DBBD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9333F-E71B-447D-AB5A-6D2EFA81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757AF-BF9E-4DC4-A071-AA268490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DFBE0-BFD7-45DE-9C4A-FDB51B46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0A129-6E43-42E6-8C9D-DE6B5BBF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2B7B8-2237-4328-A007-46F0DF0B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686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686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686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686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686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687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687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A923-D1FB-4636-AF94-5B15BDD9CAB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6EB6-DB04-49B7-BAE5-2826CE4729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255F-B0E0-4BA8-B967-EF6BDFA8E78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0AA3-1274-4528-B662-4C35FFEBFDD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788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789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789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789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789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789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789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9965-9FAD-45B0-BDD3-E9C74E0C5FB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DE61-6564-435E-AED8-C78BDE9DB9F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F59A-6395-4B67-8F44-BAA61C0DE50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E80F-E60C-4676-92B4-4BCA7B3A521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ED1F-4854-43EF-9A22-6423E9194FC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4ED9-C0B0-42E2-B24B-4F2B0220BD4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62E1-5FE5-4971-9433-D8FCA363EF6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AED3-26E9-4266-A8D4-FA4A18DEFFC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5"/>
          <p:cNvGrpSpPr/>
          <p:nvPr/>
        </p:nvGrpSpPr>
        <p:grpSpPr>
          <a:xfrm>
            <a:off x="1929600" y="4714920"/>
            <a:ext cx="890640" cy="757080"/>
            <a:chOff x="1929600" y="4714920"/>
            <a:chExt cx="890640" cy="757080"/>
          </a:xfrm>
        </p:grpSpPr>
        <p:sp>
          <p:nvSpPr>
            <p:cNvPr id="507" name="AutoShape 6"/>
            <p:cNvSpPr/>
            <p:nvPr/>
          </p:nvSpPr>
          <p:spPr>
            <a:xfrm rot="720000">
              <a:off x="1983960" y="4789440"/>
              <a:ext cx="781200" cy="60804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8" name="AutoShape 7"/>
            <p:cNvSpPr/>
            <p:nvPr/>
          </p:nvSpPr>
          <p:spPr>
            <a:xfrm rot="720000">
              <a:off x="2004480" y="4808520"/>
              <a:ext cx="737280" cy="5576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9b05"/>
                  </a:solidFill>
                  <a:uFillTx/>
                  <a:latin typeface="Arial"/>
                  <a:ea typeface="华文新魏"/>
                </a:rPr>
                <a:t>预习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09" name="Group 8"/>
          <p:cNvGrpSpPr/>
          <p:nvPr/>
        </p:nvGrpSpPr>
        <p:grpSpPr>
          <a:xfrm>
            <a:off x="3429000" y="4786920"/>
            <a:ext cx="813240" cy="692640"/>
            <a:chOff x="3429000" y="4786920"/>
            <a:chExt cx="813240" cy="692640"/>
          </a:xfrm>
        </p:grpSpPr>
        <p:sp>
          <p:nvSpPr>
            <p:cNvPr id="510" name="AutoShape 9"/>
            <p:cNvSpPr/>
            <p:nvPr/>
          </p:nvSpPr>
          <p:spPr>
            <a:xfrm rot="120000">
              <a:off x="3440160" y="4800240"/>
              <a:ext cx="790560" cy="66528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1" name="AutoShape 10"/>
            <p:cNvSpPr/>
            <p:nvPr/>
          </p:nvSpPr>
          <p:spPr>
            <a:xfrm rot="120000">
              <a:off x="3459600" y="4821840"/>
              <a:ext cx="746280" cy="6098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c000"/>
                  </a:solidFill>
                  <a:uFillTx/>
                  <a:latin typeface="Arial"/>
                  <a:ea typeface="华文新魏"/>
                </a:rPr>
                <a:t>详解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2" name="Group 11"/>
          <p:cNvGrpSpPr/>
          <p:nvPr/>
        </p:nvGrpSpPr>
        <p:grpSpPr>
          <a:xfrm>
            <a:off x="6637320" y="4624560"/>
            <a:ext cx="870120" cy="668160"/>
            <a:chOff x="6637320" y="4624560"/>
            <a:chExt cx="870120" cy="668160"/>
          </a:xfrm>
        </p:grpSpPr>
        <p:sp>
          <p:nvSpPr>
            <p:cNvPr id="513" name="AutoShape 12"/>
            <p:cNvSpPr/>
            <p:nvPr/>
          </p:nvSpPr>
          <p:spPr>
            <a:xfrm rot="21060000">
              <a:off x="6675480" y="4683240"/>
              <a:ext cx="793800" cy="550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4" name="AutoShape 13"/>
            <p:cNvSpPr/>
            <p:nvPr/>
          </p:nvSpPr>
          <p:spPr>
            <a:xfrm rot="21060000">
              <a:off x="6693840" y="4701600"/>
              <a:ext cx="749160" cy="50508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9b05"/>
                  </a:solidFill>
                  <a:uFillTx/>
                  <a:latin typeface="Arial"/>
                  <a:ea typeface="华文新魏"/>
                </a:rPr>
                <a:t>练习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5" name="Group 14"/>
          <p:cNvGrpSpPr/>
          <p:nvPr/>
        </p:nvGrpSpPr>
        <p:grpSpPr>
          <a:xfrm>
            <a:off x="4851000" y="4665960"/>
            <a:ext cx="953640" cy="840600"/>
            <a:chOff x="4851000" y="4665960"/>
            <a:chExt cx="953640" cy="840600"/>
          </a:xfrm>
        </p:grpSpPr>
        <p:sp>
          <p:nvSpPr>
            <p:cNvPr id="516" name="AutoShape 15"/>
            <p:cNvSpPr/>
            <p:nvPr/>
          </p:nvSpPr>
          <p:spPr>
            <a:xfrm rot="20220000">
              <a:off x="4932360" y="4797360"/>
              <a:ext cx="790560" cy="577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7" name="AutoShape 16"/>
            <p:cNvSpPr/>
            <p:nvPr/>
          </p:nvSpPr>
          <p:spPr>
            <a:xfrm rot="20220000">
              <a:off x="4950000" y="4817520"/>
              <a:ext cx="746280" cy="52992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9b05"/>
                  </a:solidFill>
                  <a:uFillTx/>
                  <a:latin typeface="Arial"/>
                  <a:ea typeface="华文新魏"/>
                </a:rPr>
                <a:t>拓展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8" name="WordArt 14"/>
          <p:cNvSpPr txBox="1"/>
          <p:nvPr/>
        </p:nvSpPr>
        <p:spPr>
          <a:xfrm>
            <a:off x="2627280" y="234936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uFillTx/>
                <a:latin typeface="宋体"/>
              </a:rPr>
              <a:t>玲玲的画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211640" y="1268280"/>
            <a:ext cx="182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9A02-21C1-490D-9402-E0F8212BB585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3" descr="灯泡"/>
          <p:cNvPicPr/>
          <p:nvPr/>
        </p:nvPicPr>
        <p:blipFill>
          <a:blip r:embed="rId1"/>
          <a:stretch/>
        </p:blipFill>
        <p:spPr>
          <a:xfrm>
            <a:off x="6300720" y="2852640"/>
            <a:ext cx="2349720" cy="2325960"/>
          </a:xfrm>
          <a:prstGeom prst="rect">
            <a:avLst/>
          </a:prstGeom>
          <a:ln w="0">
            <a:noFill/>
          </a:ln>
        </p:spPr>
      </p:pic>
      <p:sp>
        <p:nvSpPr>
          <p:cNvPr id="588" name="AutoShape 4"/>
          <p:cNvSpPr/>
          <p:nvPr/>
        </p:nvSpPr>
        <p:spPr>
          <a:xfrm>
            <a:off x="539640" y="2421000"/>
            <a:ext cx="4537080" cy="3168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539640" y="242100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得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意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说明玲玲认为这幅画画得非常好；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端详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这有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欣赏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意思，这幅画表明玲玲对这幅画充满了信心，她完全沉醉在自己的画中了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0E5C-6D9B-4097-B0A9-7880FB2F38C5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t011cbf27465f3de3dc[1]"/>
          <p:cNvPicPr/>
          <p:nvPr/>
        </p:nvPicPr>
        <p:blipFill>
          <a:blip r:embed="rId1"/>
          <a:stretch/>
        </p:blipFill>
        <p:spPr>
          <a:xfrm>
            <a:off x="422280" y="1685880"/>
            <a:ext cx="8207280" cy="4622760"/>
          </a:xfrm>
          <a:prstGeom prst="rect">
            <a:avLst/>
          </a:prstGeom>
          <a:ln w="0">
            <a:noFill/>
          </a:ln>
        </p:spPr>
      </p:pic>
      <p:sp>
        <p:nvSpPr>
          <p:cNvPr id="594" name="AutoShape 4"/>
          <p:cNvSpPr/>
          <p:nvPr/>
        </p:nvSpPr>
        <p:spPr>
          <a:xfrm>
            <a:off x="4140360" y="1844640"/>
            <a:ext cx="3887640" cy="1295280"/>
          </a:xfrm>
          <a:prstGeom prst="wedgeRoundRectCallout">
            <a:avLst>
              <a:gd name="adj1" fmla="val -60861"/>
              <a:gd name="adj2" fmla="val 66055"/>
              <a:gd name="adj3" fmla="val 16667"/>
            </a:avLst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玲玲，时间不早了，快去睡吧！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爸爸</a:t>
            </a: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催她了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内容占位符 2"/>
          <p:cNvSpPr/>
          <p:nvPr/>
        </p:nvSpPr>
        <p:spPr>
          <a:xfrm>
            <a:off x="3708360" y="900000"/>
            <a:ext cx="221472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464B-959F-4D0F-91B2-102C1D9318B6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1619280" y="2637000"/>
            <a:ext cx="5904000" cy="26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ef2cc"/>
              </a:gs>
            </a:gsLst>
            <a:lin ang="18900000"/>
          </a:gradFill>
          <a:ln w="38160">
            <a:solidFill>
              <a:srgbClr val="969696"/>
            </a:solidFill>
            <a:round/>
          </a:ln>
          <a:effectLst>
            <a:outerShdw dist="91658" dir="338234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1619280" y="1484280"/>
            <a:ext cx="63356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个“又”字能说明什么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9" name="Picture 4" descr="思考"/>
          <p:cNvPicPr/>
          <p:nvPr/>
        </p:nvPicPr>
        <p:blipFill>
          <a:blip r:embed="rId1"/>
          <a:stretch/>
        </p:blipFill>
        <p:spPr>
          <a:xfrm>
            <a:off x="5621400" y="3429000"/>
            <a:ext cx="1800000" cy="1670040"/>
          </a:xfrm>
          <a:prstGeom prst="rect">
            <a:avLst/>
          </a:prstGeom>
          <a:ln w="0">
            <a:noFill/>
          </a:ln>
        </p:spPr>
      </p:pic>
      <p:sp>
        <p:nvSpPr>
          <p:cNvPr id="600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C54-DA9B-4B4F-B6E5-19E9D42AC117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灯泡"/>
          <p:cNvPicPr/>
          <p:nvPr/>
        </p:nvPicPr>
        <p:blipFill>
          <a:blip r:embed="rId1"/>
          <a:stretch/>
        </p:blipFill>
        <p:spPr>
          <a:xfrm>
            <a:off x="6156360" y="3716280"/>
            <a:ext cx="2392200" cy="236844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4"/>
          <p:cNvSpPr/>
          <p:nvPr/>
        </p:nvSpPr>
        <p:spPr>
          <a:xfrm>
            <a:off x="1042920" y="2276640"/>
            <a:ext cx="5473800" cy="24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2050920" y="2565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又”说明爸爸已经不止一次催玲玲快点睡觉了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3646-9848-46CF-9C39-6FC0994A192F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3" descr="5af363dbg8675ba96e5cd&amp;690"/>
          <p:cNvPicPr/>
          <p:nvPr/>
        </p:nvPicPr>
        <p:blipFill>
          <a:blip r:embed="rId1"/>
          <a:stretch/>
        </p:blipFill>
        <p:spPr>
          <a:xfrm>
            <a:off x="468360" y="1697040"/>
            <a:ext cx="8207280" cy="454032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4"/>
          <p:cNvSpPr/>
          <p:nvPr/>
        </p:nvSpPr>
        <p:spPr>
          <a:xfrm>
            <a:off x="3924360" y="1125360"/>
            <a:ext cx="4464000" cy="1151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956040" y="1785960"/>
            <a:ext cx="446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就在这时候，水彩笔吧的一下掉到了地上，把画弄脏了，玲玲伤心地哭了起来。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内容占位符 2"/>
          <p:cNvSpPr/>
          <p:nvPr/>
        </p:nvSpPr>
        <p:spPr>
          <a:xfrm>
            <a:off x="3214800" y="91116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EF2D-D499-49BF-B3F2-6A54F30EB2B5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3" descr="30)1L923MQW]1U8TFX{AC}9"/>
          <p:cNvPicPr/>
          <p:nvPr/>
        </p:nvPicPr>
        <p:blipFill>
          <a:blip r:embed="rId1"/>
          <a:stretch/>
        </p:blipFill>
        <p:spPr>
          <a:xfrm>
            <a:off x="826920" y="1700280"/>
            <a:ext cx="7345440" cy="4681440"/>
          </a:xfrm>
          <a:prstGeom prst="rect">
            <a:avLst/>
          </a:prstGeom>
          <a:ln w="0">
            <a:noFill/>
          </a:ln>
        </p:spPr>
      </p:pic>
      <p:sp>
        <p:nvSpPr>
          <p:cNvPr id="616" name="内容占位符 2"/>
          <p:cNvSpPr/>
          <p:nvPr/>
        </p:nvSpPr>
        <p:spPr>
          <a:xfrm>
            <a:off x="3249720" y="91440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8A08-D855-483C-AD84-041FF1E1CE0D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1476360" y="1844640"/>
            <a:ext cx="5904000" cy="1800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爸爸看了，高兴地说：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了吧，孩子。好多事情并不像我们想象的那么糟糕。只要肯动脑筋，坏事也能变好事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547640" y="4076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爸爸通过这件事，告诉玲玲一个深刻的道理：只要肯动脑筋，坏事往往能变成好事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结构梳理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539640" y="33577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玲玲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1260360" y="2349360"/>
            <a:ext cx="358920" cy="2881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692360" y="206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端详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--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满意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1692360" y="3500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不小心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--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弄脏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AutoShape 7"/>
          <p:cNvSpPr/>
          <p:nvPr/>
        </p:nvSpPr>
        <p:spPr>
          <a:xfrm>
            <a:off x="3635280" y="299736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3924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哇哇哭了起来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3851280" y="40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另画来不及了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1692360" y="4941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动脑筋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--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改画   得了一等奖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AutoShape 11"/>
          <p:cNvSpPr/>
          <p:nvPr/>
        </p:nvSpPr>
        <p:spPr>
          <a:xfrm>
            <a:off x="5580000" y="2276640"/>
            <a:ext cx="432000" cy="2952720"/>
          </a:xfrm>
          <a:custGeom>
            <a:avLst/>
            <a:gdLst>
              <a:gd name="textAreaLeft" fmla="*/ 0 w 432000"/>
              <a:gd name="textAreaRight" fmla="*/ 155880 w 43200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6372360" y="342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坏事变成好事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3"/>
          <p:cNvSpPr/>
          <p:nvPr/>
        </p:nvSpPr>
        <p:spPr>
          <a:xfrm>
            <a:off x="2378160" y="1984320"/>
            <a:ext cx="62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课文讲述的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玲玲不小心弄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了自己准备参赛的画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在爸爸的启发下，她在弄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的地方画了一只小花狗，结果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在评奖会上意外得了一等奖。这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个故事告 诉我们：只要肯动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脑筋，坏事往往能变成事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AutoShape 4"/>
          <p:cNvSpPr/>
          <p:nvPr/>
        </p:nvSpPr>
        <p:spPr>
          <a:xfrm rot="1485600">
            <a:off x="1352520" y="1825560"/>
            <a:ext cx="6432480" cy="46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cap="rnd" w="57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内容占位符 2"/>
          <p:cNvSpPr/>
          <p:nvPr/>
        </p:nvSpPr>
        <p:spPr>
          <a:xfrm>
            <a:off x="5364000" y="1054080"/>
            <a:ext cx="221472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主题概括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内容占位符 2"/>
          <p:cNvSpPr/>
          <p:nvPr/>
        </p:nvSpPr>
        <p:spPr>
          <a:xfrm>
            <a:off x="684360" y="127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写法点拨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AutoShape 3"/>
          <p:cNvSpPr/>
          <p:nvPr/>
        </p:nvSpPr>
        <p:spPr>
          <a:xfrm rot="10860000">
            <a:off x="2268000" y="2852280"/>
            <a:ext cx="5689800" cy="2881440"/>
          </a:xfrm>
          <a:prstGeom prst="wedgeRoundRectCallout">
            <a:avLst>
              <a:gd name="adj1" fmla="val 50958"/>
              <a:gd name="adj2" fmla="val 62342"/>
              <a:gd name="adj3" fmla="val 16667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570040" y="3013200"/>
            <a:ext cx="524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语言描写是塑造人物形象的重要手段。成功的语言描写能够鲜明地展示人物的性格，生动地表现人物的思想感情，深刻地反映人物的内心世界，使读者读来“如闻其声，如见其人”，获得深刻的印象。本文对爸爸和玲玲的语言描写生动、简洁 ，让我们感受到爸爸是一个沉稳、疼爱孩子的人，玲玲是一个认真、善于思考的人。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4D20-E0D4-43AF-BFD3-754909D88061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1" name="Group 2"/>
          <p:cNvGrpSpPr/>
          <p:nvPr/>
        </p:nvGrpSpPr>
        <p:grpSpPr>
          <a:xfrm>
            <a:off x="1044720" y="1628640"/>
            <a:ext cx="2160360" cy="648000"/>
            <a:chOff x="1044720" y="1628640"/>
            <a:chExt cx="2160360" cy="648000"/>
          </a:xfrm>
        </p:grpSpPr>
        <p:sp>
          <p:nvSpPr>
            <p:cNvPr id="522" name="AutoShape 3"/>
            <p:cNvSpPr/>
            <p:nvPr/>
          </p:nvSpPr>
          <p:spPr>
            <a:xfrm>
              <a:off x="1044720" y="1628640"/>
              <a:ext cx="2160360" cy="648000"/>
            </a:xfrm>
            <a:custGeom>
              <a:avLst/>
              <a:gdLst>
                <a:gd name="textAreaLeft" fmla="*/ 540000 w 2160360"/>
                <a:gd name="textAreaRight" fmla="*/ 1620360 w 2160360"/>
                <a:gd name="textAreaTop" fmla="*/ 0 h 648000"/>
                <a:gd name="textAreaBottom" fmla="*/ 5670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3" name="Text Box 4"/>
            <p:cNvSpPr/>
            <p:nvPr/>
          </p:nvSpPr>
          <p:spPr>
            <a:xfrm>
              <a:off x="1547640" y="1701000"/>
              <a:ext cx="143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华文隶书"/>
                </a:rPr>
                <a:t>会写的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4" name="Text Box 5"/>
          <p:cNvSpPr/>
          <p:nvPr/>
        </p:nvSpPr>
        <p:spPr>
          <a:xfrm>
            <a:off x="2124000" y="2925720"/>
            <a:ext cx="505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1835280" y="1989000"/>
            <a:ext cx="4835520" cy="4318200"/>
            <a:chOff x="1835280" y="1989000"/>
            <a:chExt cx="4835520" cy="4318200"/>
          </a:xfrm>
        </p:grpSpPr>
        <p:sp>
          <p:nvSpPr>
            <p:cNvPr id="526" name="AutoShape 7"/>
            <p:cNvSpPr/>
            <p:nvPr/>
          </p:nvSpPr>
          <p:spPr>
            <a:xfrm>
              <a:off x="1835280" y="1989000"/>
              <a:ext cx="4680000" cy="4318200"/>
            </a:xfrm>
            <a:prstGeom prst="horizontalScrol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Text Box 8"/>
            <p:cNvSpPr/>
            <p:nvPr/>
          </p:nvSpPr>
          <p:spPr>
            <a:xfrm>
              <a:off x="1835280" y="2097360"/>
              <a:ext cx="48355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华文楷体"/>
                  <a:ea typeface="华文楷体"/>
                </a:rPr>
                <a:t>l</a:t>
              </a: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Arial"/>
                  <a:ea typeface="华文楷体"/>
                </a:rPr>
                <a:t>í</a:t>
              </a: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华文楷体"/>
                  <a:ea typeface="华文楷体"/>
                </a:rPr>
                <a:t>ng     fú     cu ī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华文楷体"/>
                  <a:ea typeface="华文楷体"/>
                </a:rPr>
                <a:t>玲      幅     催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华文楷体"/>
                  <a:ea typeface="华文楷体"/>
                </a:rPr>
                <a:t>zāo    b ā     z ā ng     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华文楷体"/>
                  <a:ea typeface="华文楷体"/>
                </a:rPr>
                <a:t>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糟  叭   脏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华文楷体"/>
                  <a:ea typeface="华文楷体"/>
                </a:rPr>
                <a:t>kěn    lǎn     b ì ng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肯   懒    并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8" name="内容占位符 2"/>
          <p:cNvSpPr/>
          <p:nvPr/>
        </p:nvSpPr>
        <p:spPr>
          <a:xfrm>
            <a:off x="3205080" y="1000080"/>
            <a:ext cx="2224080" cy="70164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字词乐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2"/>
          <p:cNvSpPr/>
          <p:nvPr/>
        </p:nvSpPr>
        <p:spPr>
          <a:xfrm>
            <a:off x="1116000" y="1916280"/>
            <a:ext cx="6912000" cy="403200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好多事情并不像我们想象的那么糟糕。只要肯动脑筋，坏事往往能变好事。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br>
              <a:rPr sz="2800"/>
            </a:b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样的事我也遇到过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拓展提升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1547640" y="2124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9900"/>
                </a:solidFill>
                <a:uFillTx/>
                <a:latin typeface="幼圆"/>
                <a:ea typeface="幼圆"/>
              </a:rPr>
              <a:t>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弧边矩形 476"/>
          <p:cNvSpPr/>
          <p:nvPr/>
        </p:nvSpPr>
        <p:spPr>
          <a:xfrm>
            <a:off x="1116000" y="1989000"/>
            <a:ext cx="6840720" cy="295272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心灵感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1405080" y="2133720"/>
            <a:ext cx="626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幼圆"/>
                <a:ea typeface="幼圆"/>
              </a:rPr>
              <a:t>遇事多动脑筋想办法，就能够巧妙地解决问题。如果放下置之不理，那么问题可能会变得更严重。文中的玲玲不小心把画弄脏了，但是她却巧妙地解决了。生活就是这样，只要善于思考，坏事往往就会变成好事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D742-FAD6-4B18-96FA-E4260BE17CC9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0" name="Group 2"/>
          <p:cNvGrpSpPr/>
          <p:nvPr/>
        </p:nvGrpSpPr>
        <p:grpSpPr>
          <a:xfrm>
            <a:off x="1042920" y="1628640"/>
            <a:ext cx="2160720" cy="648000"/>
            <a:chOff x="1042920" y="1628640"/>
            <a:chExt cx="2160720" cy="648000"/>
          </a:xfrm>
        </p:grpSpPr>
        <p:sp>
          <p:nvSpPr>
            <p:cNvPr id="531" name="AutoShape 3"/>
            <p:cNvSpPr/>
            <p:nvPr/>
          </p:nvSpPr>
          <p:spPr>
            <a:xfrm>
              <a:off x="1042920" y="1628640"/>
              <a:ext cx="2160720" cy="648000"/>
            </a:xfrm>
            <a:custGeom>
              <a:avLst/>
              <a:gdLst>
                <a:gd name="textAreaLeft" fmla="*/ 540000 w 2160720"/>
                <a:gd name="textAreaRight" fmla="*/ 1620720 w 2160720"/>
                <a:gd name="textAreaTop" fmla="*/ 0 h 648000"/>
                <a:gd name="textAreaBottom" fmla="*/ 5670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2" name="Text Box 4"/>
            <p:cNvSpPr/>
            <p:nvPr/>
          </p:nvSpPr>
          <p:spPr>
            <a:xfrm>
              <a:off x="1545840" y="1701360"/>
              <a:ext cx="14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华文隶书"/>
                </a:rPr>
                <a:t> 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华文隶书"/>
                </a:rPr>
                <a:t>读一读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3" name="Group 5"/>
          <p:cNvGrpSpPr/>
          <p:nvPr/>
        </p:nvGrpSpPr>
        <p:grpSpPr>
          <a:xfrm>
            <a:off x="1835280" y="1989000"/>
            <a:ext cx="4680000" cy="4318200"/>
            <a:chOff x="1835280" y="1989000"/>
            <a:chExt cx="4680000" cy="4318200"/>
          </a:xfrm>
        </p:grpSpPr>
        <p:sp>
          <p:nvSpPr>
            <p:cNvPr id="534" name="AutoShape 6"/>
            <p:cNvSpPr/>
            <p:nvPr/>
          </p:nvSpPr>
          <p:spPr>
            <a:xfrm>
              <a:off x="1835280" y="1989000"/>
              <a:ext cx="4680000" cy="4318200"/>
            </a:xfrm>
            <a:prstGeom prst="horizontalScrol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Text Box 7"/>
            <p:cNvSpPr/>
            <p:nvPr/>
          </p:nvSpPr>
          <p:spPr>
            <a:xfrm>
              <a:off x="2338560" y="2922120"/>
              <a:ext cx="41763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喇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叭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玲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珑     端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详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糟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糕   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催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促     弄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脏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肯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定   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懒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洋洋   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并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且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36" name="内容占位符 2"/>
          <p:cNvSpPr/>
          <p:nvPr/>
        </p:nvSpPr>
        <p:spPr>
          <a:xfrm>
            <a:off x="3205080" y="1000080"/>
            <a:ext cx="2224080" cy="70164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字词乐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2FBA-90F8-4292-A705-2079CC57C80E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3132000" y="31417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AutoShape 3"/>
          <p:cNvSpPr/>
          <p:nvPr/>
        </p:nvSpPr>
        <p:spPr>
          <a:xfrm>
            <a:off x="1198440" y="2424240"/>
            <a:ext cx="6913800" cy="3600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739880" y="2424240"/>
            <a:ext cx="5977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玲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家的小狗突然不见了，她的心情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糟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透了。为了寻找这只小狗，她伤透了脑筋，楼里楼外找遍了，好多人也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肯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帮她寻找，可是还没有找到。最后她印了一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幅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狗的相片，如果有人提供线索就给予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奖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励。最终找到了这只小狗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1" name="Group 5"/>
          <p:cNvGrpSpPr/>
          <p:nvPr/>
        </p:nvGrpSpPr>
        <p:grpSpPr>
          <a:xfrm>
            <a:off x="907920" y="1536840"/>
            <a:ext cx="2089440" cy="647640"/>
            <a:chOff x="907920" y="1536840"/>
            <a:chExt cx="2089440" cy="647640"/>
          </a:xfrm>
        </p:grpSpPr>
        <p:sp>
          <p:nvSpPr>
            <p:cNvPr id="542" name="AutoShape 6"/>
            <p:cNvSpPr/>
            <p:nvPr/>
          </p:nvSpPr>
          <p:spPr>
            <a:xfrm>
              <a:off x="907920" y="1536840"/>
              <a:ext cx="2089440" cy="647640"/>
            </a:xfrm>
            <a:prstGeom prst="flowChartAlternateProcess">
              <a:avLst/>
            </a:prstGeom>
            <a:solidFill>
              <a:srgbClr val="ffcc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Text Box 7"/>
            <p:cNvSpPr/>
            <p:nvPr/>
          </p:nvSpPr>
          <p:spPr>
            <a:xfrm>
              <a:off x="1138320" y="1575000"/>
              <a:ext cx="16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Arial"/>
                  <a:ea typeface="华文隶书"/>
                </a:rPr>
                <a:t>语境识字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4" name="内容占位符 2"/>
          <p:cNvSpPr/>
          <p:nvPr/>
        </p:nvSpPr>
        <p:spPr>
          <a:xfrm>
            <a:off x="3205080" y="1000080"/>
            <a:ext cx="2224080" cy="70164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字词乐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C8A1-AA13-4179-9D40-310FB5266B3D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6" name="Group 2"/>
          <p:cNvGrpSpPr/>
          <p:nvPr/>
        </p:nvGrpSpPr>
        <p:grpSpPr>
          <a:xfrm>
            <a:off x="900000" y="1197000"/>
            <a:ext cx="1729080" cy="647640"/>
            <a:chOff x="900000" y="1197000"/>
            <a:chExt cx="1729080" cy="647640"/>
          </a:xfrm>
        </p:grpSpPr>
        <p:sp>
          <p:nvSpPr>
            <p:cNvPr id="547" name="AutoShape 3"/>
            <p:cNvSpPr/>
            <p:nvPr/>
          </p:nvSpPr>
          <p:spPr>
            <a:xfrm>
              <a:off x="900000" y="1197000"/>
              <a:ext cx="1729080" cy="647640"/>
            </a:xfrm>
            <a:prstGeom prst="flowChartAlternateProcess">
              <a:avLst/>
            </a:prstGeom>
            <a:solidFill>
              <a:srgbClr val="ffcc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Text Box 4"/>
            <p:cNvSpPr/>
            <p:nvPr/>
          </p:nvSpPr>
          <p:spPr>
            <a:xfrm>
              <a:off x="1090800" y="1235160"/>
              <a:ext cx="135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Arial"/>
                  <a:ea typeface="华文隶书"/>
                </a:rPr>
                <a:t>多音字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9" name="AutoShape 5"/>
          <p:cNvSpPr/>
          <p:nvPr/>
        </p:nvSpPr>
        <p:spPr>
          <a:xfrm>
            <a:off x="1403280" y="2133720"/>
            <a:ext cx="6408720" cy="388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647720" y="2440080"/>
            <a:ext cx="58039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zāng 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弄脏  脏活）    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kān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看门 看守）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脏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看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zàng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心脏  内脏）     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kàn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看见 看到）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ān      (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参加   参观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)                   de(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跑得快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)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参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hēn 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(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参 党参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)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得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é(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得到  得意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)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ēn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参差不齐 ）           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ěi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得亏）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AutoShape 7"/>
          <p:cNvSpPr/>
          <p:nvPr/>
        </p:nvSpPr>
        <p:spPr>
          <a:xfrm>
            <a:off x="2195640" y="2924280"/>
            <a:ext cx="75960" cy="115416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154160"/>
              <a:gd name="textAreaBottom" fmla="*/ 112248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6"/>
                  <a:pt x="10800" y="1912"/>
                </a:cubicBezTo>
                <a:lnTo>
                  <a:pt x="10800" y="8888"/>
                </a:lnTo>
                <a:cubicBezTo>
                  <a:pt x="10800" y="9844"/>
                  <a:pt x="5400" y="10800"/>
                  <a:pt x="0" y="10800"/>
                </a:cubicBezTo>
                <a:cubicBezTo>
                  <a:pt x="5400" y="10800"/>
                  <a:pt x="10800" y="11756"/>
                  <a:pt x="10800" y="12712"/>
                </a:cubicBezTo>
                <a:lnTo>
                  <a:pt x="10800" y="19688"/>
                </a:lnTo>
                <a:cubicBezTo>
                  <a:pt x="10800" y="20644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AutoShape 8"/>
          <p:cNvSpPr/>
          <p:nvPr/>
        </p:nvSpPr>
        <p:spPr>
          <a:xfrm>
            <a:off x="5219640" y="2925720"/>
            <a:ext cx="76320" cy="11527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152720"/>
              <a:gd name="textAreaBottom" fmla="*/ 11210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6"/>
                  <a:pt x="10800" y="1912"/>
                </a:cubicBezTo>
                <a:lnTo>
                  <a:pt x="10800" y="8888"/>
                </a:lnTo>
                <a:cubicBezTo>
                  <a:pt x="10800" y="9844"/>
                  <a:pt x="5400" y="10800"/>
                  <a:pt x="0" y="10800"/>
                </a:cubicBezTo>
                <a:cubicBezTo>
                  <a:pt x="5400" y="10800"/>
                  <a:pt x="10800" y="11756"/>
                  <a:pt x="10800" y="12712"/>
                </a:cubicBezTo>
                <a:lnTo>
                  <a:pt x="10800" y="19688"/>
                </a:lnTo>
                <a:cubicBezTo>
                  <a:pt x="10800" y="20644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AutoShape 9"/>
          <p:cNvSpPr/>
          <p:nvPr/>
        </p:nvSpPr>
        <p:spPr>
          <a:xfrm>
            <a:off x="2195640" y="4365720"/>
            <a:ext cx="72720" cy="1368360"/>
          </a:xfrm>
          <a:custGeom>
            <a:avLst/>
            <a:gdLst>
              <a:gd name="textAreaLeft" fmla="*/ 46440 w 72720"/>
              <a:gd name="textAreaRight" fmla="*/ 73080 w 72720"/>
              <a:gd name="textAreaTop" fmla="*/ 41040 h 1368360"/>
              <a:gd name="textAreaBottom" fmla="*/ 13273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2"/>
                  <a:pt x="10800" y="2083"/>
                </a:cubicBezTo>
                <a:lnTo>
                  <a:pt x="10800" y="8717"/>
                </a:lnTo>
                <a:cubicBezTo>
                  <a:pt x="10800" y="9759"/>
                  <a:pt x="5400" y="10800"/>
                  <a:pt x="0" y="10800"/>
                </a:cubicBezTo>
                <a:cubicBezTo>
                  <a:pt x="5400" y="10800"/>
                  <a:pt x="10800" y="11842"/>
                  <a:pt x="10800" y="12883"/>
                </a:cubicBezTo>
                <a:lnTo>
                  <a:pt x="10800" y="19517"/>
                </a:lnTo>
                <a:cubicBezTo>
                  <a:pt x="10800" y="20559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5219640" y="4508640"/>
            <a:ext cx="76320" cy="122544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内容占位符 2"/>
          <p:cNvSpPr/>
          <p:nvPr/>
        </p:nvSpPr>
        <p:spPr>
          <a:xfrm>
            <a:off x="3205080" y="0"/>
            <a:ext cx="2224080" cy="70164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字词乐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75A1-29E8-4022-A539-03E81998D77A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7" name="Group 2"/>
          <p:cNvGrpSpPr/>
          <p:nvPr/>
        </p:nvGrpSpPr>
        <p:grpSpPr>
          <a:xfrm>
            <a:off x="826920" y="1916280"/>
            <a:ext cx="3457800" cy="647640"/>
            <a:chOff x="826920" y="1916280"/>
            <a:chExt cx="3457800" cy="647640"/>
          </a:xfrm>
        </p:grpSpPr>
        <p:sp>
          <p:nvSpPr>
            <p:cNvPr id="558" name="AutoShape 3"/>
            <p:cNvSpPr/>
            <p:nvPr/>
          </p:nvSpPr>
          <p:spPr>
            <a:xfrm>
              <a:off x="826920" y="1916280"/>
              <a:ext cx="3457800" cy="647640"/>
            </a:xfrm>
            <a:custGeom>
              <a:avLst/>
              <a:gdLst>
                <a:gd name="textAreaLeft" fmla="*/ 864360 w 3457800"/>
                <a:gd name="textAreaRight" fmla="*/ 2593440 w 3457800"/>
                <a:gd name="textAreaTop" fmla="*/ 0 h 647640"/>
                <a:gd name="textAreaBottom" fmla="*/ 567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Text Box 4"/>
            <p:cNvSpPr/>
            <p:nvPr/>
          </p:nvSpPr>
          <p:spPr>
            <a:xfrm>
              <a:off x="2070720" y="1974600"/>
              <a:ext cx="124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近义词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0" name="AutoShape 5"/>
          <p:cNvSpPr/>
          <p:nvPr/>
        </p:nvSpPr>
        <p:spPr>
          <a:xfrm>
            <a:off x="971640" y="2924280"/>
            <a:ext cx="7056360" cy="316872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556000" y="2997360"/>
            <a:ext cx="44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满意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—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满足   收拾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—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整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仔细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—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细心   往往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—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常常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糟 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—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内容占位符 2"/>
          <p:cNvSpPr/>
          <p:nvPr/>
        </p:nvSpPr>
        <p:spPr>
          <a:xfrm>
            <a:off x="3205080" y="1000080"/>
            <a:ext cx="2224080" cy="70164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字词乐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2928-B668-4626-A4FA-BA2D847A0F02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826920" y="1916280"/>
            <a:ext cx="3457800" cy="647640"/>
            <a:chOff x="826920" y="1916280"/>
            <a:chExt cx="3457800" cy="647640"/>
          </a:xfrm>
        </p:grpSpPr>
        <p:sp>
          <p:nvSpPr>
            <p:cNvPr id="565" name="AutoShape 3"/>
            <p:cNvSpPr/>
            <p:nvPr/>
          </p:nvSpPr>
          <p:spPr>
            <a:xfrm>
              <a:off x="826920" y="1916280"/>
              <a:ext cx="3457800" cy="647640"/>
            </a:xfrm>
            <a:custGeom>
              <a:avLst/>
              <a:gdLst>
                <a:gd name="textAreaLeft" fmla="*/ 864360 w 3457800"/>
                <a:gd name="textAreaRight" fmla="*/ 2593440 w 3457800"/>
                <a:gd name="textAreaTop" fmla="*/ 0 h 647640"/>
                <a:gd name="textAreaBottom" fmla="*/ 567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6" name="Text Box 4"/>
            <p:cNvSpPr/>
            <p:nvPr/>
          </p:nvSpPr>
          <p:spPr>
            <a:xfrm>
              <a:off x="2070720" y="1974600"/>
              <a:ext cx="124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反义词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7" name="Group 5"/>
          <p:cNvGrpSpPr/>
          <p:nvPr/>
        </p:nvGrpSpPr>
        <p:grpSpPr>
          <a:xfrm>
            <a:off x="1042920" y="2781360"/>
            <a:ext cx="7056360" cy="2592360"/>
            <a:chOff x="1042920" y="2781360"/>
            <a:chExt cx="7056360" cy="2592360"/>
          </a:xfrm>
        </p:grpSpPr>
        <p:sp>
          <p:nvSpPr>
            <p:cNvPr id="568" name="AutoShape 6"/>
            <p:cNvSpPr/>
            <p:nvPr/>
          </p:nvSpPr>
          <p:spPr>
            <a:xfrm>
              <a:off x="1042920" y="2781360"/>
              <a:ext cx="7056360" cy="2592360"/>
            </a:xfrm>
            <a:prstGeom prst="vertic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9" name="Text Box 7"/>
            <p:cNvSpPr/>
            <p:nvPr/>
          </p:nvSpPr>
          <p:spPr>
            <a:xfrm>
              <a:off x="2611440" y="2836800"/>
              <a:ext cx="4465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脏  </a:t>
              </a:r>
              <a:r>
                <a:rPr b="0" i="1" lang="en-US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—  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净   懒 </a:t>
              </a:r>
              <a:r>
                <a:rPr b="0" i="1" lang="en-US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— 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勤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仔细</a:t>
              </a:r>
              <a:r>
                <a:rPr b="0" i="1" lang="en-US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—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马虎   坏事</a:t>
              </a:r>
              <a:r>
                <a:rPr b="0" i="1" lang="en-US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—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好事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0" name="内容占位符 2"/>
          <p:cNvSpPr/>
          <p:nvPr/>
        </p:nvSpPr>
        <p:spPr>
          <a:xfrm>
            <a:off x="3205080" y="1000080"/>
            <a:ext cx="2224080" cy="70164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字词乐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AutoShape 2"/>
          <p:cNvSpPr/>
          <p:nvPr/>
        </p:nvSpPr>
        <p:spPr>
          <a:xfrm>
            <a:off x="900000" y="3213000"/>
            <a:ext cx="7344000" cy="25210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前预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1044720" y="3213000"/>
            <a:ext cx="706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一、 初读课文，了解课文大意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二、 正确、流利、有感情地朗读课文，感悟积累对自己有启发的句子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三、懂得生活中只要肯动脑筋，坏事     也能变成好事的道理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2411280" y="1917720"/>
            <a:ext cx="5329440" cy="936720"/>
          </a:xfrm>
          <a:prstGeom prst="wedgeRoundRectCallout">
            <a:avLst>
              <a:gd name="adj1" fmla="val -59620"/>
              <a:gd name="adj2" fmla="val -4439"/>
              <a:gd name="adj3" fmla="val 16667"/>
            </a:avLst>
          </a:prstGeom>
          <a:solidFill>
            <a:srgbClr val="99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2682720" y="2068560"/>
            <a:ext cx="46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隶书"/>
              </a:rPr>
              <a:t>同学们，在学习课文之前，我们需要自己做到以下三点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2DC4-1BB9-40D3-B8B9-BC7E114FBE1F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1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1116000" y="2060640"/>
            <a:ext cx="6553080" cy="1101600"/>
            <a:chOff x="1116000" y="2060640"/>
            <a:chExt cx="6553080" cy="1101600"/>
          </a:xfrm>
        </p:grpSpPr>
        <p:sp>
          <p:nvSpPr>
            <p:cNvPr id="579" name="AutoShape 4"/>
            <p:cNvSpPr/>
            <p:nvPr/>
          </p:nvSpPr>
          <p:spPr>
            <a:xfrm>
              <a:off x="1116000" y="2060640"/>
              <a:ext cx="6553080" cy="110160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0" name="Text Box 5"/>
            <p:cNvSpPr/>
            <p:nvPr/>
          </p:nvSpPr>
          <p:spPr>
            <a:xfrm>
              <a:off x="1533600" y="2153160"/>
              <a:ext cx="5551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玲玲得</a:t>
              </a: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意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地</a:t>
              </a: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端详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着自己画的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《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我家的一角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》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。这幅画明天就要参加评奖了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81" name="Group 6"/>
          <p:cNvGrpSpPr/>
          <p:nvPr/>
        </p:nvGrpSpPr>
        <p:grpSpPr>
          <a:xfrm>
            <a:off x="2268360" y="3875040"/>
            <a:ext cx="5256360" cy="1569960"/>
            <a:chOff x="2268360" y="3875040"/>
            <a:chExt cx="5256360" cy="1569960"/>
          </a:xfrm>
        </p:grpSpPr>
        <p:sp>
          <p:nvSpPr>
            <p:cNvPr id="582" name="AutoShape 7"/>
            <p:cNvSpPr/>
            <p:nvPr/>
          </p:nvSpPr>
          <p:spPr>
            <a:xfrm>
              <a:off x="2268360" y="4005720"/>
              <a:ext cx="5256360" cy="1439280"/>
            </a:xfrm>
            <a:prstGeom prst="flowChartManualOperation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Text Box 8"/>
            <p:cNvSpPr/>
            <p:nvPr/>
          </p:nvSpPr>
          <p:spPr>
            <a:xfrm>
              <a:off x="3081600" y="3875040"/>
              <a:ext cx="385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从“得意”和“端详”这两个词可以看出什么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84" name="Picture 9" descr="思考"/>
          <p:cNvPicPr/>
          <p:nvPr/>
        </p:nvPicPr>
        <p:blipFill>
          <a:blip r:embed="rId1"/>
          <a:stretch/>
        </p:blipFill>
        <p:spPr>
          <a:xfrm>
            <a:off x="252360" y="3860640"/>
            <a:ext cx="180036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02:56:56Z</dcterms:created>
  <dc:creator>Administrator</dc:creator>
  <dc:description/>
  <dc:language>en-US</dc:language>
  <cp:lastModifiedBy>万润仪器贸易公司</cp:lastModifiedBy>
  <dcterms:modified xsi:type="dcterms:W3CDTF">2020-08-19T01:31:58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